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229-4B03-4F26-A70F-279B8EB5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C93-72C3-4523-B7DF-D852C0F7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542-F9FB-44D2-AE93-B2653B85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A56-18A7-4F5B-A848-099C65AA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B2E-1E4C-454C-BC0D-BCC83FB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8D0-8A1E-49B6-951F-3824F6B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E01-4C38-4F25-A39E-1A573CCA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8AE-BC14-45FD-B7C2-40DB288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0B7-EA72-4C36-A4E2-ABC45BC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3A7-5365-45C7-9369-F507EA8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08A-7B36-45FB-85A1-F2E6880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40E-15C2-45E6-AF6C-663151B8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FF9-B25B-4B7E-8395-A955C0FD281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09080" y="1484280"/>
            <a:ext cx="75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OLLERANZE GEOMET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7720" y="34596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ZIONE NEI DISEGNI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tav162"/>
          <p:cNvPicPr/>
          <p:nvPr/>
        </p:nvPicPr>
        <p:blipFill>
          <a:blip r:embed="rId1"/>
          <a:stretch/>
        </p:blipFill>
        <p:spPr>
          <a:xfrm>
            <a:off x="152280" y="1230480"/>
            <a:ext cx="8839440" cy="45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4"/>
          <p:cNvGraphicFramePr/>
          <p:nvPr/>
        </p:nvGraphicFramePr>
        <p:xfrm>
          <a:off x="239760" y="5678640"/>
          <a:ext cx="886464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60" y="5678640"/>
                    <a:ext cx="8864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152280" y="533520"/>
            <a:ext cx="8839080" cy="5790600"/>
            <a:chOff x="152280" y="533520"/>
            <a:chExt cx="8839080" cy="5790600"/>
          </a:xfrm>
        </p:grpSpPr>
        <p:pic>
          <p:nvPicPr>
            <p:cNvPr id="66" name="Picture 3" descr="tav163"/>
            <p:cNvPicPr/>
            <p:nvPr/>
          </p:nvPicPr>
          <p:blipFill>
            <a:blip r:embed="rId1"/>
            <a:stretch/>
          </p:blipFill>
          <p:spPr>
            <a:xfrm>
              <a:off x="152280" y="549720"/>
              <a:ext cx="8839080" cy="57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"/>
            <p:cNvSpPr/>
            <p:nvPr/>
          </p:nvSpPr>
          <p:spPr>
            <a:xfrm>
              <a:off x="231120" y="533520"/>
              <a:ext cx="874872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5"/>
          <p:cNvSpPr/>
          <p:nvPr/>
        </p:nvSpPr>
        <p:spPr>
          <a:xfrm>
            <a:off x="387720" y="345960"/>
            <a:ext cx="47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ZIONE NEI DISEGNI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4360" y="549360"/>
            <a:ext cx="755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forma – Tolleranza di cilindr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iché una toll cilin può essere interpretata come una toll circol estesa all’intera superficie cilindrica essa controlla simultaneamente circolarità, rettilineità, parallelismo degli elementi dell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378_2"/>
          <p:cNvPicPr/>
          <p:nvPr/>
        </p:nvPicPr>
        <p:blipFill>
          <a:blip r:embed="rId1"/>
          <a:stretch/>
        </p:blipFill>
        <p:spPr>
          <a:xfrm>
            <a:off x="1692360" y="2637000"/>
            <a:ext cx="5883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7120" y="4857840"/>
            <a:ext cx="8572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olleranze di orien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rallelis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1 asse rispetto ad 1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1 asse rispetto ad 1 piano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383"/>
          <p:cNvPicPr/>
          <p:nvPr/>
        </p:nvPicPr>
        <p:blipFill>
          <a:blip r:embed="rId1"/>
          <a:stretch/>
        </p:blipFill>
        <p:spPr>
          <a:xfrm>
            <a:off x="1500120" y="142920"/>
            <a:ext cx="6516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384"/>
          <p:cNvPicPr/>
          <p:nvPr/>
        </p:nvPicPr>
        <p:blipFill>
          <a:blip r:embed="rId1"/>
          <a:stretch/>
        </p:blipFill>
        <p:spPr>
          <a:xfrm>
            <a:off x="4057560" y="0"/>
            <a:ext cx="5086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50920" y="2349360"/>
            <a:ext cx="327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superficie rispetto ad 1 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superficie rispetto ad 1 piano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00040" y="500040"/>
            <a:ext cx="814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orien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pendicolari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linea o asse rispetto ad 1 linea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385"/>
          <p:cNvPicPr/>
          <p:nvPr/>
        </p:nvPicPr>
        <p:blipFill>
          <a:blip r:embed="rId1"/>
          <a:stretch/>
        </p:blipFill>
        <p:spPr>
          <a:xfrm>
            <a:off x="1403280" y="3213000"/>
            <a:ext cx="6046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2276640"/>
            <a:ext cx="327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linea o asse rispetto ad 1 piano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superficie rispetto ad 1 retta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1 superficie rispetto ad 1 piano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386"/>
          <p:cNvPicPr/>
          <p:nvPr/>
        </p:nvPicPr>
        <p:blipFill>
          <a:blip r:embed="rId1"/>
          <a:stretch/>
        </p:blipFill>
        <p:spPr>
          <a:xfrm>
            <a:off x="3276720" y="792000"/>
            <a:ext cx="58672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387"/>
          <p:cNvPicPr/>
          <p:nvPr/>
        </p:nvPicPr>
        <p:blipFill>
          <a:blip r:embed="rId1"/>
          <a:stretch/>
        </p:blipFill>
        <p:spPr>
          <a:xfrm>
            <a:off x="4414680" y="0"/>
            <a:ext cx="472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19890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orien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pendicolari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so di un p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86280" y="22860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RORI DI FORMA E ORIENTAMENTO: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tav151"/>
          <p:cNvPicPr/>
          <p:nvPr/>
        </p:nvPicPr>
        <p:blipFill>
          <a:blip r:embed="rId1"/>
          <a:stretch/>
        </p:blipFill>
        <p:spPr>
          <a:xfrm>
            <a:off x="457200" y="762120"/>
            <a:ext cx="8381880" cy="275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tav152"/>
          <p:cNvPicPr/>
          <p:nvPr/>
        </p:nvPicPr>
        <p:blipFill>
          <a:blip r:embed="rId2"/>
          <a:stretch/>
        </p:blipFill>
        <p:spPr>
          <a:xfrm>
            <a:off x="380880" y="3613320"/>
            <a:ext cx="84582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5920" y="22860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RORI DI FORMA E ORIENTAMENTO: 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tav153"/>
          <p:cNvPicPr/>
          <p:nvPr/>
        </p:nvPicPr>
        <p:blipFill>
          <a:blip r:embed="rId1"/>
          <a:stretch/>
        </p:blipFill>
        <p:spPr>
          <a:xfrm>
            <a:off x="533520" y="576360"/>
            <a:ext cx="822960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av154"/>
          <p:cNvPicPr/>
          <p:nvPr/>
        </p:nvPicPr>
        <p:blipFill>
          <a:blip r:embed="rId2"/>
          <a:stretch/>
        </p:blipFill>
        <p:spPr>
          <a:xfrm>
            <a:off x="457200" y="3276720"/>
            <a:ext cx="8229600" cy="1941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av161"/>
          <p:cNvPicPr/>
          <p:nvPr/>
        </p:nvPicPr>
        <p:blipFill>
          <a:blip r:embed="rId3"/>
          <a:stretch/>
        </p:blipFill>
        <p:spPr>
          <a:xfrm>
            <a:off x="685800" y="5216400"/>
            <a:ext cx="7848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07:20Z</dcterms:created>
  <dc:creator>Arc</dc:creator>
  <dc:description/>
  <dc:language>en-US</dc:language>
  <cp:lastModifiedBy>Segreteria IPMM07</cp:lastModifiedBy>
  <dcterms:modified xsi:type="dcterms:W3CDTF">2008-04-15T11:03:55Z</dcterms:modified>
  <cp:revision>4</cp:revision>
  <dc:subject/>
  <dc:title>Diapositiva 1</dc:title>
</cp:coreProperties>
</file>